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C37-3B20-4C70-86EA-7F7D0DA0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5FF-EBD8-44AB-BB05-407A66D9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BA0-E508-4E6B-8752-52E2A485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630-FAC5-4BEB-B0BC-EE3B0958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93640" y="760680"/>
            <a:ext cx="6150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0D7-115D-41EC-9154-E09A8072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97ED-00C2-46A0-9B5A-7CD59E28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B490-9F3A-4A38-B002-EA470BC7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C626-02EB-41F4-A042-09E9772D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F04C-3A1D-450A-9445-FF96669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826B-255E-4E1E-8B55-92A8E434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1E7-3893-46AD-9422-4E8457B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93640" y="760680"/>
            <a:ext cx="6150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9B2D-DAAB-4755-AA71-5AA7AB1F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89C-6BA5-4AD1-9A88-44459164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1EF1-33C0-494A-888C-682ADC8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D0B1-F1F3-4971-8D62-E7CA6243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63A3-5B41-4BDF-8578-208E1BD7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F363-6A6C-425A-83A2-2A8EACAC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34E7-D74F-4966-BFEA-A63067DA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64A-3154-43AD-BE0A-A25BBDF5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93640" y="760680"/>
            <a:ext cx="6150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2892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4200" y="148572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9364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2892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4200" y="3913560"/>
            <a:ext cx="2604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0D0-17A4-48B2-8BF3-5C6B24B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760680"/>
            <a:ext cx="61502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482-894D-45DF-8C46-F04AEA16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7CB-B03A-40E0-9A9D-B74E6ADB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9040" y="391356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6A4-D87C-47E8-BDA5-7E40C5A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9040" y="1485720"/>
            <a:ext cx="394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640" y="3913560"/>
            <a:ext cx="8089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29B-DB51-47E0-A2E1-8AAED198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6334-8D9E-4FB8-8317-12A7827703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81320" y="6381720"/>
            <a:ext cx="21337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0488-F31B-41DE-AFBD-F1C593147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Straight Connector 3"/>
          <p:cNvSpPr/>
          <p:nvPr/>
        </p:nvSpPr>
        <p:spPr>
          <a:xfrm>
            <a:off x="700200" y="1382760"/>
            <a:ext cx="7999200" cy="1440"/>
          </a:xfrm>
          <a:prstGeom prst="line">
            <a:avLst/>
          </a:prstGeom>
          <a:ln w="19080">
            <a:solidFill>
              <a:srgbClr val="247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4" name="Picture 4" descr="NG logo small.ai"/>
          <p:cNvPicPr/>
          <p:nvPr/>
        </p:nvPicPr>
        <p:blipFill>
          <a:blip r:embed="rId2"/>
          <a:stretch/>
        </p:blipFill>
        <p:spPr>
          <a:xfrm>
            <a:off x="6656400" y="264960"/>
            <a:ext cx="2171520" cy="787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59840" cy="2400480"/>
          </a:xfrm>
          <a:custGeom>
            <a:avLst/>
            <a:gdLst/>
            <a:ahLst/>
            <a:rect l="l" t="t" r="r" b="b"/>
            <a:pathLst>
              <a:path w="5760" h="1512">
                <a:moveTo>
                  <a:pt x="0" y="0"/>
                </a:moveTo>
                <a:lnTo>
                  <a:pt x="0" y="1368"/>
                </a:lnTo>
                <a:lnTo>
                  <a:pt x="1008" y="1368"/>
                </a:lnTo>
                <a:lnTo>
                  <a:pt x="1152" y="1512"/>
                </a:lnTo>
                <a:lnTo>
                  <a:pt x="1296" y="1368"/>
                </a:lnTo>
                <a:lnTo>
                  <a:pt x="5760" y="1368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3640" y="127908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46" name="Picture 4" descr="NG logo small.ai"/>
          <p:cNvPicPr/>
          <p:nvPr/>
        </p:nvPicPr>
        <p:blipFill>
          <a:blip r:embed="rId2"/>
          <a:stretch/>
        </p:blipFill>
        <p:spPr>
          <a:xfrm>
            <a:off x="6656400" y="264960"/>
            <a:ext cx="2171520" cy="78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685800" y="297144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00480" y="434340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85800" y="434340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00480" y="2971440"/>
            <a:ext cx="4572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28880" y="3216240"/>
            <a:ext cx="1439640" cy="124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 your chosen image here. The four corners must just cover the arrow tips. For covers, the three pictures should be the same size and in a straight line.   </a:t>
            </a:r>
            <a:endParaRPr b="1" lang="en-US" sz="10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0"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algn="ctr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23880" algn="ctr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AC1D-5526-4EC5-9246-A9BC1F273B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56F-9DEC-4058-91EB-324D6BCB0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3"/>
          <p:cNvSpPr/>
          <p:nvPr/>
        </p:nvSpPr>
        <p:spPr>
          <a:xfrm>
            <a:off x="700200" y="1382760"/>
            <a:ext cx="7999200" cy="1440"/>
          </a:xfrm>
          <a:prstGeom prst="line">
            <a:avLst/>
          </a:prstGeom>
          <a:ln w="19080">
            <a:solidFill>
              <a:srgbClr val="247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93" name="Picture 4" descr="NG logo small.ai"/>
          <p:cNvPicPr/>
          <p:nvPr/>
        </p:nvPicPr>
        <p:blipFill>
          <a:blip r:embed="rId2"/>
          <a:stretch/>
        </p:blipFill>
        <p:spPr>
          <a:xfrm>
            <a:off x="6656400" y="264960"/>
            <a:ext cx="2171520" cy="787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59840" cy="2400480"/>
          </a:xfrm>
          <a:custGeom>
            <a:avLst/>
            <a:gdLst/>
            <a:ahLst/>
            <a:rect l="l" t="t" r="r" b="b"/>
            <a:pathLst>
              <a:path w="5760" h="1512">
                <a:moveTo>
                  <a:pt x="0" y="0"/>
                </a:moveTo>
                <a:lnTo>
                  <a:pt x="0" y="1368"/>
                </a:lnTo>
                <a:lnTo>
                  <a:pt x="1008" y="1368"/>
                </a:lnTo>
                <a:lnTo>
                  <a:pt x="1152" y="1512"/>
                </a:lnTo>
                <a:lnTo>
                  <a:pt x="1296" y="1368"/>
                </a:lnTo>
                <a:lnTo>
                  <a:pt x="5760" y="1368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3640" y="127908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134" name="Picture 4" descr="NG logo small.ai"/>
          <p:cNvPicPr/>
          <p:nvPr/>
        </p:nvPicPr>
        <p:blipFill>
          <a:blip r:embed="rId2"/>
          <a:stretch/>
        </p:blipFill>
        <p:spPr>
          <a:xfrm>
            <a:off x="6656400" y="264960"/>
            <a:ext cx="217152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71320" y="5164200"/>
            <a:ext cx="810396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ebruary 2012 Workgroup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08480" y="2971800"/>
            <a:ext cx="217152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5800" y="2971800"/>
            <a:ext cx="2171880" cy="1714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rcRect l="4347" t="0" r="13044" b="2174"/>
          <a:stretch/>
        </p:blipFill>
        <p:spPr>
          <a:xfrm>
            <a:off x="6084720" y="2971800"/>
            <a:ext cx="2171880" cy="1714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593640" y="1279080"/>
            <a:ext cx="8043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79c1"/>
                </a:solidFill>
                <a:latin typeface="Arial"/>
              </a:rPr>
              <a:t>0413S - DN Adjustment of notices for the reduction of Enduring Annual NTS Exit (Flat) Capacity</a:t>
            </a: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AS IS” PROCESS STEPS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3280" y="1485720"/>
            <a:ext cx="8371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Aft>
                <a:spcPts val="1250"/>
              </a:spcAft>
              <a:buClr>
                <a:srgbClr val="0079c1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ly Applicatio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uring Annual Flat increase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b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N requests for flex &amp;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0"/>
              </a:spcAft>
              <a:buClr>
                <a:srgbClr val="0079c1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ive flex &amp; pressure statements (~mid Augu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TS response to requests – accept or part accept or 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0"/>
              </a:spcAft>
              <a:buClr>
                <a:srgbClr val="0079c1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N resubmission for Enduring Annual, flex &amp; pressure (~end A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t adjustment only if flex or pressure not fully met in Y+4,5 o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Aft>
                <a:spcPts val="125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reasonably adjust Enduring Annual for Y+4,5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0"/>
              </a:spcAft>
              <a:buClr>
                <a:srgbClr val="0079c1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TS discuss with DNs &amp; finalise by 3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A56-B20D-4074-A6AA-97779FDE8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ISSUE FOR REDUCTIONS Y+1,2,3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Ns can submit Enduring Annual Reductions for Y+1,2,3 in July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reductions affect entitlement for Y+4,5,6 but current UNC does not permit adjustm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+4,5,6 flex or pressure not met in full for 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ac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b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ss accurate matching of DN flat bookings to DN requirements when their flex &amp; pressure is agre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G 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B3F-869D-4883-884F-DA4C7E2F9E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V="1">
            <a:off x="5869080" y="2276280"/>
            <a:ext cx="0" cy="21564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570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Outline of Modification 0413S - </a:t>
            </a:r>
            <a:r>
              <a:rPr b="1" lang="en-US" sz="2000" spc="-1" strike="noStrike">
                <a:solidFill>
                  <a:srgbClr val="0079c1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71560" y="1927800"/>
            <a:ext cx="2570040" cy="1358640"/>
            <a:chOff x="871560" y="1927800"/>
            <a:chExt cx="2570040" cy="1358640"/>
          </a:xfrm>
        </p:grpSpPr>
        <p:sp>
          <p:nvSpPr>
            <p:cNvPr id="183" name=""/>
            <p:cNvSpPr/>
            <p:nvPr/>
          </p:nvSpPr>
          <p:spPr>
            <a:xfrm>
              <a:off x="1136520" y="293688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136520" y="2072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29724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93688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57652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21760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85724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49688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456120" y="234324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Flat capacity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75440" y="3009960"/>
              <a:ext cx="84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Gas Year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136520" y="2505240"/>
            <a:ext cx="1440000" cy="0"/>
          </a:xfrm>
          <a:prstGeom prst="line">
            <a:avLst/>
          </a:prstGeom>
          <a:ln w="28440">
            <a:solidFill>
              <a:srgbClr val="0079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183200" y="1927800"/>
            <a:ext cx="2569680" cy="1358640"/>
            <a:chOff x="4183200" y="1927800"/>
            <a:chExt cx="2569680" cy="1358640"/>
          </a:xfrm>
        </p:grpSpPr>
        <p:sp>
          <p:nvSpPr>
            <p:cNvPr id="195" name=""/>
            <p:cNvSpPr/>
            <p:nvPr/>
          </p:nvSpPr>
          <p:spPr>
            <a:xfrm>
              <a:off x="4448160" y="293688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448160" y="207288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60852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24816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8780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52924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16888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808520" y="28656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200000">
              <a:off x="3767760" y="234324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Flat capacity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86720" y="3009960"/>
              <a:ext cx="84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Gas Year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48160" y="2505240"/>
              <a:ext cx="1439280" cy="0"/>
            </a:xfrm>
            <a:prstGeom prst="line">
              <a:avLst/>
            </a:prstGeom>
            <a:ln w="28440">
              <a:solidFill>
                <a:srgbClr val="0079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71560" y="3302640"/>
            <a:ext cx="2569680" cy="1358640"/>
            <a:chOff x="871560" y="3302640"/>
            <a:chExt cx="2569680" cy="1358640"/>
          </a:xfrm>
        </p:grpSpPr>
        <p:sp>
          <p:nvSpPr>
            <p:cNvPr id="207" name=""/>
            <p:cNvSpPr/>
            <p:nvPr/>
          </p:nvSpPr>
          <p:spPr>
            <a:xfrm>
              <a:off x="1136520" y="431172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136520" y="34477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29688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93652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57616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21760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85724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49688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456120" y="371808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Flat capacity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75080" y="4384800"/>
              <a:ext cx="84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Gas Year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36520" y="3880080"/>
              <a:ext cx="1439280" cy="0"/>
            </a:xfrm>
            <a:prstGeom prst="line">
              <a:avLst/>
            </a:prstGeom>
            <a:ln w="28440">
              <a:solidFill>
                <a:srgbClr val="0079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183200" y="3302640"/>
            <a:ext cx="2569680" cy="1358640"/>
            <a:chOff x="4183200" y="3302640"/>
            <a:chExt cx="2569680" cy="1358640"/>
          </a:xfrm>
        </p:grpSpPr>
        <p:sp>
          <p:nvSpPr>
            <p:cNvPr id="219" name=""/>
            <p:cNvSpPr/>
            <p:nvPr/>
          </p:nvSpPr>
          <p:spPr>
            <a:xfrm>
              <a:off x="4448160" y="431172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448160" y="34477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60852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24816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88780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52924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16888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808520" y="4240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3767760" y="371808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Flat capacity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86720" y="4384800"/>
              <a:ext cx="84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Gas Year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48160" y="3880080"/>
              <a:ext cx="1439280" cy="0"/>
            </a:xfrm>
            <a:prstGeom prst="line">
              <a:avLst/>
            </a:prstGeom>
            <a:ln w="28440">
              <a:solidFill>
                <a:srgbClr val="0079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71560" y="4887360"/>
            <a:ext cx="2570040" cy="1357920"/>
            <a:chOff x="871560" y="4887360"/>
            <a:chExt cx="2570040" cy="1357920"/>
          </a:xfrm>
        </p:grpSpPr>
        <p:sp>
          <p:nvSpPr>
            <p:cNvPr id="231" name=""/>
            <p:cNvSpPr/>
            <p:nvPr/>
          </p:nvSpPr>
          <p:spPr>
            <a:xfrm>
              <a:off x="1136520" y="589572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136520" y="503208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29724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93688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57652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21760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85724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49688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456120" y="530280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Flat capacity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75440" y="5968800"/>
              <a:ext cx="84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Gas Year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6520" y="5451120"/>
              <a:ext cx="720720" cy="0"/>
            </a:xfrm>
            <a:prstGeom prst="line">
              <a:avLst/>
            </a:prstGeom>
            <a:ln w="28440">
              <a:solidFill>
                <a:srgbClr val="0079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33960" y="4887360"/>
            <a:ext cx="2570040" cy="1357920"/>
            <a:chOff x="4233960" y="4887360"/>
            <a:chExt cx="2570040" cy="1357920"/>
          </a:xfrm>
        </p:grpSpPr>
        <p:sp>
          <p:nvSpPr>
            <p:cNvPr id="243" name=""/>
            <p:cNvSpPr/>
            <p:nvPr/>
          </p:nvSpPr>
          <p:spPr>
            <a:xfrm>
              <a:off x="4498920" y="589572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498920" y="503208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65964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29928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93892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58000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21964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859280" y="582408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3818520" y="530280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Flat capacity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37840" y="5968800"/>
              <a:ext cx="84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9c1"/>
                  </a:solidFill>
                  <a:latin typeface="Arial"/>
                </a:rPr>
                <a:t>Gas Year</a:t>
              </a:r>
              <a:endParaRPr b="1" lang="en-US" sz="12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8920" y="5451120"/>
              <a:ext cx="720720" cy="0"/>
            </a:xfrm>
            <a:prstGeom prst="line">
              <a:avLst/>
            </a:prstGeom>
            <a:ln w="28440">
              <a:solidFill>
                <a:srgbClr val="0079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258560" y="13762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9c1"/>
                </a:solidFill>
                <a:latin typeface="Arial"/>
              </a:rPr>
              <a:t>July requests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55280" y="13762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9c1"/>
                </a:solidFill>
                <a:latin typeface="Arial"/>
              </a:rPr>
              <a:t>DN Adjustment Req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79c1"/>
                </a:solidFill>
                <a:latin typeface="Arial"/>
              </a:rPr>
              <a:t>e.g. more flat needed from Y+4</a:t>
            </a:r>
            <a:endParaRPr b="1" lang="en-US" sz="12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75440" y="1376280"/>
            <a:ext cx="136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9c1"/>
                </a:solidFill>
                <a:latin typeface="Arial"/>
              </a:rPr>
              <a:t>Can be 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9c1"/>
                </a:solidFill>
                <a:latin typeface="Arial"/>
              </a:rPr>
              <a:t>allowed?*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6000" y="1720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9c1"/>
                </a:solidFill>
                <a:latin typeface="Arial"/>
              </a:rPr>
              <a:t>Case 1</a:t>
            </a:r>
            <a:endParaRPr b="1" lang="en-US" sz="1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6520" y="30686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9c1"/>
                </a:solidFill>
                <a:latin typeface="Arial"/>
              </a:rPr>
              <a:t>Case 2</a:t>
            </a:r>
            <a:endParaRPr b="1" lang="en-US" sz="1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520" y="4653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9c1"/>
                </a:solidFill>
                <a:latin typeface="Arial"/>
              </a:rPr>
              <a:t>Case 3</a:t>
            </a:r>
            <a:endParaRPr b="1" lang="en-US" sz="1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556000" y="2276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56000" y="2276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38671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6000" y="41544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54514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57387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5866920" y="2133720"/>
            <a:ext cx="1800" cy="358560"/>
          </a:xfrm>
          <a:prstGeom prst="line">
            <a:avLst/>
          </a:prstGeom>
          <a:ln w="28440">
            <a:solidFill>
              <a:srgbClr val="dc0f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9080" y="2133720"/>
            <a:ext cx="863640" cy="0"/>
          </a:xfrm>
          <a:prstGeom prst="line">
            <a:avLst/>
          </a:prstGeom>
          <a:ln w="28440">
            <a:solidFill>
              <a:srgbClr val="dc0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9080" y="2276640"/>
            <a:ext cx="86364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3867120"/>
            <a:ext cx="0" cy="28728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4154400"/>
            <a:ext cx="86364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9640" y="5451480"/>
            <a:ext cx="0" cy="28728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9640" y="5738760"/>
            <a:ext cx="158436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4011480"/>
            <a:ext cx="863640" cy="0"/>
          </a:xfrm>
          <a:prstGeom prst="line">
            <a:avLst/>
          </a:prstGeom>
          <a:ln w="28440">
            <a:solidFill>
              <a:srgbClr val="dc0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866920" y="3868560"/>
            <a:ext cx="1800" cy="142920"/>
          </a:xfrm>
          <a:prstGeom prst="line">
            <a:avLst/>
          </a:prstGeom>
          <a:ln w="28440">
            <a:solidFill>
              <a:srgbClr val="dc0f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19280" y="5452920"/>
            <a:ext cx="1800" cy="142920"/>
          </a:xfrm>
          <a:prstGeom prst="line">
            <a:avLst/>
          </a:prstGeom>
          <a:ln w="28440">
            <a:solidFill>
              <a:srgbClr val="dc0f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19640" y="5595840"/>
            <a:ext cx="1584360" cy="0"/>
          </a:xfrm>
          <a:prstGeom prst="line">
            <a:avLst/>
          </a:prstGeom>
          <a:ln w="28440">
            <a:solidFill>
              <a:srgbClr val="dc0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89640" y="2198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9110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0520" y="36860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9110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9880" y="4803840"/>
            <a:ext cx="14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without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d 413S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25640" y="5397480"/>
            <a:ext cx="136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9110"/>
                </a:solidFill>
                <a:latin typeface="Arial"/>
              </a:rPr>
              <a:t>Yes with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9110"/>
                </a:solidFill>
                <a:latin typeface="Arial"/>
              </a:rPr>
              <a:t>Mod 413S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2760" y="6354720"/>
            <a:ext cx="807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9c1"/>
                </a:solidFill>
                <a:latin typeface="Arial"/>
              </a:rPr>
              <a:t>* Flat adjustment consistent with Y+4,5,6 flex or pressure not available as requested. Reductions need to satisfy User Commitment.</a:t>
            </a:r>
            <a:endParaRPr b="1" lang="en-US" sz="1000" spc="-1" strike="noStrike">
              <a:solidFill>
                <a:srgbClr val="0079c1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53960" y="4264200"/>
            <a:ext cx="2063880" cy="246240"/>
            <a:chOff x="1353960" y="4264200"/>
            <a:chExt cx="2063880" cy="246240"/>
          </a:xfrm>
        </p:grpSpPr>
        <p:sp>
          <p:nvSpPr>
            <p:cNvPr id="283" name=""/>
            <p:cNvSpPr/>
            <p:nvPr/>
          </p:nvSpPr>
          <p:spPr>
            <a:xfrm>
              <a:off x="135396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1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9380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8728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764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4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0656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5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6692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6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667040" y="2897280"/>
            <a:ext cx="2063880" cy="246240"/>
            <a:chOff x="4667040" y="2897280"/>
            <a:chExt cx="2063880" cy="246240"/>
          </a:xfrm>
        </p:grpSpPr>
        <p:sp>
          <p:nvSpPr>
            <p:cNvPr id="290" name=""/>
            <p:cNvSpPr/>
            <p:nvPr/>
          </p:nvSpPr>
          <p:spPr>
            <a:xfrm>
              <a:off x="466704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1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688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0036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6072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4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964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5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8000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6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353960" y="2897280"/>
            <a:ext cx="2063880" cy="246240"/>
            <a:chOff x="1353960" y="2897280"/>
            <a:chExt cx="2063880" cy="246240"/>
          </a:xfrm>
        </p:grpSpPr>
        <p:sp>
          <p:nvSpPr>
            <p:cNvPr id="297" name=""/>
            <p:cNvSpPr/>
            <p:nvPr/>
          </p:nvSpPr>
          <p:spPr>
            <a:xfrm>
              <a:off x="135396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1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9380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728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4764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4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0656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5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66920" y="2897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6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667040" y="4264200"/>
            <a:ext cx="2063880" cy="246240"/>
            <a:chOff x="4667040" y="4264200"/>
            <a:chExt cx="2063880" cy="246240"/>
          </a:xfrm>
        </p:grpSpPr>
        <p:sp>
          <p:nvSpPr>
            <p:cNvPr id="304" name=""/>
            <p:cNvSpPr/>
            <p:nvPr/>
          </p:nvSpPr>
          <p:spPr>
            <a:xfrm>
              <a:off x="466704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1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0688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0036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072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4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1964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5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80000" y="4264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6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353960" y="5848200"/>
            <a:ext cx="2063880" cy="246240"/>
            <a:chOff x="1353960" y="5848200"/>
            <a:chExt cx="2063880" cy="246240"/>
          </a:xfrm>
        </p:grpSpPr>
        <p:sp>
          <p:nvSpPr>
            <p:cNvPr id="311" name=""/>
            <p:cNvSpPr/>
            <p:nvPr/>
          </p:nvSpPr>
          <p:spPr>
            <a:xfrm>
              <a:off x="1353960" y="584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1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3800" y="584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87280" y="584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47640" y="584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4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06560" y="584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5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66920" y="584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6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717800" y="5877000"/>
            <a:ext cx="2063880" cy="246240"/>
            <a:chOff x="4717800" y="5877000"/>
            <a:chExt cx="2063880" cy="246240"/>
          </a:xfrm>
        </p:grpSpPr>
        <p:sp>
          <p:nvSpPr>
            <p:cNvPr id="318" name=""/>
            <p:cNvSpPr/>
            <p:nvPr/>
          </p:nvSpPr>
          <p:spPr>
            <a:xfrm>
              <a:off x="4717800" y="5877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1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57640" y="5877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1120" y="5877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3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11480" y="5877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4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70400" y="5877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5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30760" y="5877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9c1"/>
                  </a:solidFill>
                  <a:latin typeface="Arial"/>
                </a:rPr>
                <a:t>6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187-6612-4EB2-AB5F-F6D34F1B1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Timeline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148572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group report to Panel by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tle time for consultation and conclusion before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July 2012 (opening of Reductions request window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ly that provisions (if implemented) only available for 2013 application wind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group report to Panel by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 to conclude before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July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AAF-1258-438B-911C-DF367F528A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3640" y="760680"/>
            <a:ext cx="6150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Seeking Workgroup views…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A3D-76FC-4427-9B78-578045BED6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18:13Z</dcterms:created>
  <dc:creator>beverley.viney</dc:creator>
  <dc:description/>
  <dc:language>en-US</dc:language>
  <cp:lastModifiedBy>dennis.rachwal</cp:lastModifiedBy>
  <cp:lastPrinted>2012-02-09T17:21:08Z</cp:lastPrinted>
  <dcterms:modified xsi:type="dcterms:W3CDTF">2012-02-10T15:20:18Z</dcterms:modified>
  <cp:revision>146</cp:revision>
  <dc:subject/>
  <dc:title>0332 - Removal of a Users ability to allow Quarterly NTS Entry Capacity to lapse </dc:title>
</cp:coreProperties>
</file>